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1A0-6ED8-4119-9D05-95D6E29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B56-D778-4DED-B40F-9B1A23C8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527-C7AA-4D81-91AA-0037F633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550-4B25-4A4F-98FA-138533D7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615-1C7A-447A-8E1F-59B3AB3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630-B255-4D53-9CF4-F59FBDD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FFC-2854-4DC1-9751-904FDAD3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506-5ADA-457F-A592-7FEE902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7EF-3C8D-42DA-990A-C9C6C4D6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ADC-63A1-43FA-B0DC-F2158A17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43B-2F21-486C-9F84-50E77926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7A6-09C0-46C7-8FAD-7C3BCD5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3F8E-9100-4CE6-B7D7-1F2EEE79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Dzsószer fáraó piramisának főbb lépései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Huni piramisának maradványai láthatók. Ez volt az első piramis, mely úgy nézett ki, mint ahogy a piramisok általában (négyzet alapú gúla). Úgy készült, hogy egy lépcsőzetes piramis közeit kitöltötték. Sajnos nem volt túl időtáll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ajzon Huni piramisának felépítése látható, és az, hogy mára mi maradt meg belő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3 téglapiramis (Kheopsz, Khefrén, Mükerinosz) látható. Látszik, hogy ez a fajta felépítés milyen időtálló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 kanópuszok láthatók. A mumifikálás során ezekbe tették a halott belső szerv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sólyomfedelűbe a BELEKET, a sakálfedelűbe a GYOMROT, a majomfedelűbe a TÜDŐT, az emberfedelűbe a MÁJAT tet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találtam jó képeket, csak ásatások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ómai ásatások, feltárás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látható. Sajnos etruszk sírokból kevés maradt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ómaiak szerettek az utak, legfőképpen a Via Appia mellé temetkezni. Néhány (sőt, nem is néhány, mivel nagyon sok volt) sír megmaradt, ezekről gyűjtöttem kép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Naqsh-e Rostam, I. Dareiosz perzsa király síremléke látható. A síremlék Perszepolisz közelébe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Úgyszintén, csak más nézőpontb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1412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Petra látható. (NEM AZONOS AZ  OSZTÁLYTÁRSUNKK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rdániába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csak királyi temetkezési hely volt, hanem egy váro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3 síremléket a sziklába vájt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Petra rejtett bejárata látható. A síremléket csak 1812–ben fedezték fel, azelőtt csak a helyi lakosok tudtak róla, bár elvileg valamikor keresztes lovagok is jártak 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belseje látható. Látszik, hogy rajzokkal díszítették a sírokat, de olyan sírfeliratokat, mint amelyek az egyiptomiaknál voltak, nem alkalmazt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z Ur-zikkurat számítógépes rekonstrukciója lá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aljába vezető út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felső része látható. Látszik a tágas hely, ez egy királyi sír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tumulus (halomsír) látható. Jól látható a kőkerítés, mely megakadályozta a föld lecsúszás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egy egyiptomi masztaba látható. Jól szemlélteti a jellegzetes téglaformát, mely elüt a tumulus kerek felépítését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masztaba szerkezeti rajz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Dzsószer fáraó (III. dinasztia) lépcsőzetes piramisa látható. Ez volt az első piramis, bár tulajdonképpen több egymásra helyezett masztabából á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Ezen a képen is Dzsószer fáraó piramis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9T19:20:1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